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5AC6-6EB3-48FF-AC04-7BCEAE038E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C29F7A-77AD-40EE-B877-DE6CE2E01E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0DE4CD-349F-41B2-8EE9-8DD92B993F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5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8E20BE-4433-4244-ABB9-94B01074B4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6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1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BE6D6E-5D95-4ACC-A641-9DBC420363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6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CEB1D6-FB13-49DB-9BDE-25E500156B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68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A71-38DA-4DB0-B8A1-86A0EB94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9B5-D46B-4711-99E6-50B7446A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8AA-8BFB-404C-B7D8-BD735BB6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A4F-A0E9-4194-9AFE-C59BF1D7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EA5-9927-4D28-A67C-124E54A9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268-56A6-4A02-928E-280D60E8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436-376B-4930-8EAF-4F75904E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386-3305-4527-B6CD-F3E2B7F8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F49-33BE-4755-9624-B8F0255C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A46-DFFE-4692-9358-761C84EB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6FD-F005-4D96-B718-C79DC4E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B98-D2FA-4004-9865-F0E41D4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499A-6900-4447-B4D9-D928959FD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1400" y="82440"/>
            <a:ext cx="11796840" cy="663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ПРОГРАММА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общеобразовательной организации-участника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«Школа Минпросвещения России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437080" y="4151160"/>
            <a:ext cx="5799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ичинская Елена Анатол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7880" y="364680"/>
            <a:ext cx="1152072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алитическое и прогностическое обоснования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раммы развития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94800" y="1825200"/>
            <a:ext cx="106556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EST-анали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ление политических (Political), экономических (Economic), социальных (Social) и технологических (Technological) аспектов внешней среды, которые вызывают проблемы и задачи предстоящего периода. Рассматривая те или иные факторы, в PEST-анализе задаются вопросы: какие тенденции (политические, культурные, экономические, технологические) могут повлиять на реализацию проекта «Школа Минпросвещения России» в общеобразовательной организаци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63160" y="188640"/>
            <a:ext cx="1173636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WOT-анали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явления факторов внутренней и внешней среды, обуславливающих потенциальные возможности и опасности: Strengths (сильные стороны), Weaknesses (слабые стороны), Opportunities (возможности), Threats (угрозы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ыявить и оформить проблемы деятельности О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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ные новыми задачами развития шко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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шённые в прошлом, но важные для развития ОО в будуще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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ые с родительским запросом, социальным заказ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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шие в окружающей среде, влияющие на деятельность ОО. Необходимо представить результаты самодиагностики, определить стартовый уровень развития ОО. Важно помнить о том, что основная задача самодиагностики сводится к выявлению дефицитов показателей соответствия уровню модели «Школы Минпросвещения России», и заключается в разработке комплексных мероприятий, направленных на ликвидацию этих дефицитов и повышение уров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712800" y="650880"/>
            <a:ext cx="1074096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515880" y="728640"/>
            <a:ext cx="11068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87440" y="3262320"/>
          <a:ext cx="9339120" cy="1628640"/>
        </p:xfrm>
        <a:graphic>
          <a:graphicData uri="http://schemas.openxmlformats.org/drawingml/2006/table">
            <a:tbl>
              <a:tblPr/>
              <a:tblGrid>
                <a:gridCol w="4670280"/>
                <a:gridCol w="4668840"/>
              </a:tblGrid>
              <a:tr h="5428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З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400480" y="5211720"/>
          <a:ext cx="9331200" cy="1554120"/>
        </p:xfrm>
        <a:graphic>
          <a:graphicData uri="http://schemas.openxmlformats.org/drawingml/2006/table">
            <a:tbl>
              <a:tblPr/>
              <a:tblGrid>
                <a:gridCol w="4665600"/>
                <a:gridCol w="466560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Вос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6240" y="364680"/>
            <a:ext cx="110142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тализированный SWOT-анализ для выявления факторов внутренней и внешней среды 8 направлений развития </a:t>
            </a:r>
            <a:r>
              <a:rPr b="1" lang="ru-RU" sz="2800" spc="-1" strike="noStrike">
                <a:solidFill>
                  <a:srgbClr val="0070c0"/>
                </a:solidFill>
                <a:latin typeface="Calibri Light"/>
              </a:rPr>
              <a:t>ОО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400480" y="1585800"/>
          <a:ext cx="9304200" cy="1554120"/>
        </p:xfrm>
        <a:graphic>
          <a:graphicData uri="http://schemas.openxmlformats.org/drawingml/2006/table">
            <a:tbl>
              <a:tblPr/>
              <a:tblGrid>
                <a:gridCol w="4652640"/>
                <a:gridCol w="465156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ческая модель 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673280" y="477720"/>
          <a:ext cx="8639280" cy="2230560"/>
        </p:xfrm>
        <a:graphic>
          <a:graphicData uri="http://schemas.openxmlformats.org/drawingml/2006/table">
            <a:tbl>
              <a:tblPr/>
              <a:tblGrid>
                <a:gridCol w="4319640"/>
                <a:gridCol w="4319640"/>
              </a:tblGrid>
              <a:tr h="7430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ос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4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673280" y="3270240"/>
          <a:ext cx="8639280" cy="1822320"/>
        </p:xfrm>
        <a:graphic>
          <a:graphicData uri="http://schemas.openxmlformats.org/drawingml/2006/table">
            <a:tbl>
              <a:tblPr/>
              <a:tblGrid>
                <a:gridCol w="4319640"/>
                <a:gridCol w="4319640"/>
              </a:tblGrid>
              <a:tr h="5745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Твор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506600" y="614520"/>
          <a:ext cx="8854920" cy="2447640"/>
        </p:xfrm>
        <a:graphic>
          <a:graphicData uri="http://schemas.openxmlformats.org/drawingml/2006/table">
            <a:tbl>
              <a:tblPr/>
              <a:tblGrid>
                <a:gridCol w="4427640"/>
                <a:gridCol w="4427280"/>
              </a:tblGrid>
              <a:tr h="8157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Профори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506600" y="3595680"/>
          <a:ext cx="8854920" cy="2448000"/>
        </p:xfrm>
        <a:graphic>
          <a:graphicData uri="http://schemas.openxmlformats.org/drawingml/2006/table">
            <a:tbl>
              <a:tblPr/>
              <a:tblGrid>
                <a:gridCol w="4427640"/>
                <a:gridCol w="4427280"/>
              </a:tblGrid>
              <a:tr h="8161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Учитель. Школьные коман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422360" y="609480"/>
          <a:ext cx="9161640" cy="2160720"/>
        </p:xfrm>
        <a:graphic>
          <a:graphicData uri="http://schemas.openxmlformats.org/drawingml/2006/table">
            <a:tbl>
              <a:tblPr/>
              <a:tblGrid>
                <a:gridCol w="4581720"/>
                <a:gridCol w="4579920"/>
              </a:tblGrid>
              <a:tr h="720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Школьный клим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422360" y="3303720"/>
          <a:ext cx="9161640" cy="2342880"/>
        </p:xfrm>
        <a:graphic>
          <a:graphicData uri="http://schemas.openxmlformats.org/drawingml/2006/table">
            <a:tbl>
              <a:tblPr/>
              <a:tblGrid>
                <a:gridCol w="4581720"/>
                <a:gridCol w="4579920"/>
              </a:tblGrid>
              <a:tr h="8064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Образовательная среда, создание услов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6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0" y="38160"/>
            <a:ext cx="12192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1055520" y="44280"/>
            <a:ext cx="9223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3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Программа развития и Образовательная 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36600" y="1079640"/>
            <a:ext cx="55562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1488"/>
              </a:spcBef>
              <a:spcAft>
                <a:spcPts val="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Программа развит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– управленческий документ, обеспечивающий достижение стратегических и тактических задач развития образовательной организации с учетом приоритетов государственной политики в сфере образования и результатов проблемного анализа образовательной ситуации на основе планирования системных позитивных изменений, описания содержания инновационной деятельности и механизмов ее финансирования, критериев количественной и качественной оценки достижения прогнозируемых результа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229440" y="1079640"/>
            <a:ext cx="53528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1488"/>
              </a:spcBef>
              <a:spcAft>
                <a:spcPts val="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Образовательная програм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– это нормативный документ, отражающий организационные основы педагогической деятельности учреждения образования, его цели и задачи, методы и принципы, прогнозируемые результаты деятельности, а также способы проведения их мониторинга и оце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7189920" y="4149720"/>
            <a:ext cx="43923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0" y="23760"/>
            <a:ext cx="121921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0" y="15840"/>
            <a:ext cx="121921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50760" y="0"/>
            <a:ext cx="1209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0" y="11160"/>
            <a:ext cx="1219212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0" y="28440"/>
            <a:ext cx="1219212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0" y="55440"/>
            <a:ext cx="12192120" cy="67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63520" y="279360"/>
          <a:ext cx="11582280" cy="6307200"/>
        </p:xfrm>
        <a:graphic>
          <a:graphicData uri="http://schemas.openxmlformats.org/drawingml/2006/table">
            <a:tbl>
              <a:tblPr/>
              <a:tblGrid>
                <a:gridCol w="484200"/>
                <a:gridCol w="1125360"/>
                <a:gridCol w="1287720"/>
                <a:gridCol w="753840"/>
                <a:gridCol w="820800"/>
                <a:gridCol w="816120"/>
                <a:gridCol w="1170000"/>
                <a:gridCol w="1052280"/>
                <a:gridCol w="1733760"/>
                <a:gridCol w="1168200"/>
                <a:gridCol w="1170000"/>
              </a:tblGrid>
              <a:tr h="630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е подпр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реа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нь м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е м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й с муници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ьными  реги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ыми м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сурсное обеспечение реализации (бюджет, внебюджет, соотнесение с муницип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ым, регион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ым финансировани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ые инд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ры рез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сти реализ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а оценки результатов и конт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я за реализаци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2240" y="117360"/>
            <a:ext cx="118792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 описания подпрограммы</a:t>
            </a:r>
            <a:r>
              <a:rPr b="1" lang="en-US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r>
              <a:rPr b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«Учитель. Школьная команда»</a:t>
            </a:r>
            <a:br>
              <a:rPr sz="2900"/>
            </a:br>
            <a:r>
              <a:rPr b="1" lang="ru-RU" sz="2900" spc="-1" strike="noStrike">
                <a:solidFill>
                  <a:srgbClr val="ed7d31"/>
                </a:solidFill>
                <a:latin typeface="Calibri Light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549360"/>
          <a:ext cx="12192120" cy="6352920"/>
        </p:xfrm>
        <a:graphic>
          <a:graphicData uri="http://schemas.openxmlformats.org/drawingml/2006/table">
            <a:tbl>
              <a:tblPr/>
              <a:tblGrid>
                <a:gridCol w="1084320"/>
                <a:gridCol w="11107800"/>
              </a:tblGrid>
              <a:tr h="736560"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fafd"/>
                        </a:gs>
                        <a:gs pos="100000">
                          <a:srgbClr val="cee1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Целевой проект(подпрограмма) «Учитель. Школьная команда».Руковод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fafd"/>
                        </a:gs>
                        <a:gs pos="100000">
                          <a:srgbClr val="cee1f2"/>
                        </a:gs>
                      </a:gsLst>
                      <a:lin ang="5400000"/>
                    </a:gradFill>
                  </a:tcPr>
                </a:tc>
              </a:tr>
              <a:tr h="731880"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fafd"/>
                        </a:gs>
                        <a:gs pos="100000">
                          <a:srgbClr val="cee1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учительства, постоянное профессиональное развитие, в том числе на основе адресного методического сопрово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fafd"/>
                        </a:gs>
                        <a:gs pos="100000">
                          <a:srgbClr val="cee1f2"/>
                        </a:gs>
                      </a:gsLst>
                      <a:lin ang="5400000"/>
                    </a:gradFill>
                  </a:tcPr>
                </a:tc>
              </a:tr>
              <a:tr h="4884480"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fafd"/>
                        </a:gs>
                        <a:gs pos="100000">
                          <a:srgbClr val="cee1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«внутренней» мотивации педагогов к профессиональному саморазвитию, освоению педагогами школы инновационных способов и методов обучения и воспитания обучающих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образовательной организации на 100% высококвалифицирован- ными  педагогическими кадр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авовых, организационных условий для развития профессиональной культуры педагогических работников О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внутришкольной системы непрерывного повышения профессионального мастерства педагогических работни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изация штатного расписания с учетом решения задач по обеспечению повышения качества образовательного процесса, социального заказа ОО, внедрение разработанных единых подходов к формированию штатного распис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7fafd"/>
                        </a:gs>
                        <a:gs pos="100000">
                          <a:srgbClr val="cee1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2240" y="117360"/>
            <a:ext cx="118792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 описания подпрограммы</a:t>
            </a:r>
            <a:r>
              <a:rPr b="1" lang="en-US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r>
              <a:rPr b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читель. Школьная команда»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520" y="549360"/>
          <a:ext cx="12144600" cy="6369120"/>
        </p:xfrm>
        <a:graphic>
          <a:graphicData uri="http://schemas.openxmlformats.org/drawingml/2006/table">
            <a:tbl>
              <a:tblPr/>
              <a:tblGrid>
                <a:gridCol w="1224000"/>
                <a:gridCol w="10920600"/>
              </a:tblGrid>
              <a:tr h="457200"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й проект(подпрограмма) «Учитель. Школьная команд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911920"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Повышение квалификации управленческой команды ОО и приведение штатного расписания в соответствие с потребностями образовательной системы школ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Создание на базе образовательной организации профессиональных сообществ, нацеленных на осуществление методической поддержки педагогов на уровнях школы, района, города, област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Эффективная реализация механизмов наставничества. 9.Стимулирование участия педагогических работников в профессиональных конкурсах и иных мероприятиях по обмену передовым педагогическим опыт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4160" y="43920"/>
            <a:ext cx="1160136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 описания подпрограммы</a:t>
            </a:r>
            <a:r>
              <a:rPr b="1" lang="en-US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r>
              <a:rPr b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«Учитель. Школьная команда»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534960"/>
          <a:ext cx="12192120" cy="6321600"/>
        </p:xfrm>
        <a:graphic>
          <a:graphicData uri="http://schemas.openxmlformats.org/drawingml/2006/table">
            <a:tbl>
              <a:tblPr/>
              <a:tblGrid>
                <a:gridCol w="2583000"/>
                <a:gridCol w="9609120"/>
              </a:tblGrid>
              <a:tr h="63216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принципы реализации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6360" indent="169920">
                        <a:lnSpc>
                          <a:spcPct val="105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направленность деятельности в соответствии с образовательным запросом и заказом педагогических кадров школ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6360" indent="16992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сть и последовательность осуществления преемственности и непрерывности образования педагогических кадров ОО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6360" indent="169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педагогической науки и практик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6360" indent="169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фференцированный и индивидуальный подход к образованию педагогических кадров школ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6360" indent="169920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общность, непрерывность, единство общей и профессиональной культур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6360" indent="169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изированность (адресность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6360" indent="169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связь и преемственность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6360" indent="169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ступность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6360" indent="169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тивнос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52600" y="360360"/>
            <a:ext cx="1150596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Актуальность разработки программ развития образовательных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организаций определяется следующи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br>
              <a:rPr sz="21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Во-пер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, важна роль стратегического планирования в сфере управления развитием территорий и организаций, такой подход позволяет решать управленческие зад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ыходящие за рамки полномочий, интегрировать материальные ресурсы из различных источников, объединять усилия представителей различных социальных групп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Во-вторых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егодня фактически отсутствует правовая база разработки и реализации Программы развития образовательной организации, если не считать того, что разработка и утверждение по согласованию с учредителем программы развития образовательной организации отнесено к компетенции образовательной организации (п.7 ч.3 ст.28 Федерального закона «Об образовании в Российской Федерации» от 29.12.2012 № 273-ФЗ). Программа развития не является базовым документом, с содержанием которого увязано финансирование деятельности образовательной организации, ее методическое и кадровое обеспечение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В-третьих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от наличия и степени проработанности Программы развития образовательной организации зависит четкость постановки и понимания актуальной цели и задач развития организации всеми заинтересованными субъ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00" y="117360"/>
            <a:ext cx="11879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описания подпрограммы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Учитель. Школьная команда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12192120" cy="6958080"/>
        </p:xfrm>
        <a:graphic>
          <a:graphicData uri="http://schemas.openxmlformats.org/drawingml/2006/table">
            <a:tbl>
              <a:tblPr/>
              <a:tblGrid>
                <a:gridCol w="2103480"/>
                <a:gridCol w="10088640"/>
              </a:tblGrid>
              <a:tr h="69580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ые индикаторы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SzPct val="5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 показатель укомплектованности ОО педагогическими кадр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SzPct val="5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 показатель текучести кадр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5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еличение количества трудоустроившихся молодых специалистов и продолжающих работу в школев течение 3-х л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92000"/>
                        </a:lnSpc>
                        <a:spcAft>
                          <a:spcPts val="37"/>
                        </a:spcAft>
                        <a:buClr>
                          <a:srgbClr val="000000"/>
                        </a:buClr>
                        <a:buSzPct val="5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ие образовательного уровня педагогических и руководящих кадр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5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ие квалификационного уровня педагогических и руководящих кадр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4000"/>
                        </a:lnSpc>
                        <a:buClr>
                          <a:srgbClr val="000000"/>
                        </a:buClr>
                        <a:buSzPct val="5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еличение числа педагогических работников, вовлеченных в инновационный процесс, экспериментальную, исследовательскую и диагностическую деятельнос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5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еличение числа педагогических работников, в отношении которых реализуется адресное методическое сопровожд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97000"/>
                        </a:lnSpc>
                        <a:buClr>
                          <a:srgbClr val="000000"/>
                        </a:buClr>
                        <a:buSzPct val="5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еличение числа педагогических работников, принимающих участие в реализации программы «Наставничество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97000"/>
                        </a:lnSpc>
                        <a:buClr>
                          <a:srgbClr val="000000"/>
                        </a:buClr>
                        <a:buSzPct val="5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еличение числа педагогических работников, принимающих участие в конкурсном движен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1202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 описания подпрограммы</a:t>
            </a:r>
            <a:r>
              <a:rPr b="1" lang="en-US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r>
              <a:rPr b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читель. Школьная команда»</a:t>
            </a:r>
            <a:br>
              <a:rPr sz="2900"/>
            </a:br>
            <a:r>
              <a:rPr b="1" lang="ru-RU" sz="2900" spc="-1" strike="noStrike">
                <a:solidFill>
                  <a:srgbClr val="ed7d31"/>
                </a:solidFill>
                <a:latin typeface="Calibri Light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93600" y="741240"/>
          <a:ext cx="12285720" cy="6115320"/>
        </p:xfrm>
        <a:graphic>
          <a:graphicData uri="http://schemas.openxmlformats.org/drawingml/2006/table">
            <a:tbl>
              <a:tblPr/>
              <a:tblGrid>
                <a:gridCol w="2603520"/>
                <a:gridCol w="9682200"/>
              </a:tblGrid>
              <a:tr h="611532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marL="54000" indent="189000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условий, обеспечивающих личностный рост педагогов. Повышение уровня профессионального мастерства работающих педагог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4000" indent="189000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условий для результативной работы в инновационном режиме и в условиях ФГО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4000" indent="189000">
                        <a:lnSpc>
                          <a:spcPct val="105000"/>
                        </a:lnSpc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кадрового потенциала школьной команды как носителя духовных и нравственных ценностей, обеспечивающего повышение качества образования и формирование выпускника ОО в соответствии с определенной модел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4000" indent="189000">
                        <a:lnSpc>
                          <a:spcPct val="105000"/>
                        </a:lnSpc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системы стимулирования деятельности результативно работающих педагогов школы через систему управления педагогическим персоналом как ресурсом развития О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4000" indent="1890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правовых и организационных условий для закрепления педагогических кадров в О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2240" y="189000"/>
            <a:ext cx="11879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начение целевых показателей реализации Программы развития по подпрограмме «Учитель. Школьные команды»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1125360"/>
          <a:ext cx="12192120" cy="5737320"/>
        </p:xfrm>
        <a:graphic>
          <a:graphicData uri="http://schemas.openxmlformats.org/drawingml/2006/table">
            <a:tbl>
              <a:tblPr/>
              <a:tblGrid>
                <a:gridCol w="4199040"/>
                <a:gridCol w="2347920"/>
                <a:gridCol w="1204920"/>
                <a:gridCol w="1098360"/>
                <a:gridCol w="1116000"/>
                <a:gridCol w="1116000"/>
                <a:gridCol w="1109880"/>
              </a:tblGrid>
              <a:tr h="8096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зовое значе ние на 01.01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30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Процент укомплектован ности ОО педагогическими кадр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5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Процент текучести кад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746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Количество молодых специалистов, работающих в ОО в течение 3-х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066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Доля педработников, прошедших повышение квалификации по профилю преподаваемого предмета за последние 3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44280"/>
          <a:ext cx="12192120" cy="8610840"/>
        </p:xfrm>
        <a:graphic>
          <a:graphicData uri="http://schemas.openxmlformats.org/drawingml/2006/table">
            <a:tbl>
              <a:tblPr/>
              <a:tblGrid>
                <a:gridCol w="4248000"/>
                <a:gridCol w="2033640"/>
                <a:gridCol w="1293840"/>
                <a:gridCol w="1295640"/>
                <a:gridCol w="1109520"/>
                <a:gridCol w="1109520"/>
                <a:gridCol w="1101960"/>
              </a:tblGrid>
              <a:tr h="11743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зовое значе ние на 1.01.2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956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Доля педагогических работников, имеющих первую или высшую квалификационные катего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739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Количество педагогических работников, вовлечённых в инновационный процесс, экспериментальную, исследовательскую и диагностическую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565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Количество педагогических работников, принимающих участие в программе «Наставничество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565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Количество педагогических работников, принимающих участие в конкурсном движ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52240" y="0"/>
            <a:ext cx="1101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 МЕРОПРИЯТИЙ РЕАЛИЗАЦИИ ПРОЕКТА (ПОДПРОГРАММЫ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052640"/>
          <a:ext cx="12192120" cy="5959440"/>
        </p:xfrm>
        <a:graphic>
          <a:graphicData uri="http://schemas.openxmlformats.org/drawingml/2006/table">
            <a:tbl>
              <a:tblPr/>
              <a:tblGrid>
                <a:gridCol w="2766960"/>
                <a:gridCol w="1636920"/>
                <a:gridCol w="1552320"/>
                <a:gridCol w="2049480"/>
                <a:gridCol w="860400"/>
                <a:gridCol w="831960"/>
                <a:gridCol w="830160"/>
                <a:gridCol w="831960"/>
                <a:gridCol w="831960"/>
              </a:tblGrid>
              <a:tr h="88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 в дорожную карту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и результа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760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Проведение мониторинга количественного и качественного состава педагогических рабо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годно в сентяб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 по кад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 банк данных по педкадрам, дополнение корректир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18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Анализ потребности в ведении новых штатных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годно в сентяб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базы данных о потребности в педкадрах и иных кадрах при решении вопросов развития школы и модер низации обра зовательного простра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2192120" cy="86832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ТОГИ</a:t>
            </a:r>
            <a:r>
              <a:rPr b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68320"/>
            <a:ext cx="12192120" cy="598968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смотрели структуру Программы развития по проек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 группах прове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r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 управленческой модели ОО  - представили результа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лучили информацию о моделях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ссмотрели пример описания подпрограммы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 группах описали 1 подпрограмму проекта, представили по алгорит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Методические рекомендации, презентация, примеры описания подпрограмм, шаблоны таблиц представлены для слуша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ерспекти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ждая школа-участница на 1 этапе для защиты разрабатывает свою модель на основании предложе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Вносит изменения или создает новую Программу развития в соответствии с типовой программой развития по проек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Программа развития образовательной организации является управленческим документ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, который должен придать процессу изменений в деятельности образовательной организации целенаправленный характер устойчивого развития.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Устойчивость развит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значает совпадение векторов развития социального окружения и развития самой образовательной организ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грамму развития образовательной организации можно рассматривать как результат со-творчества административно-управленческих и педагогических работников и, шире, всех субъектов образовательных отношений определяющу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глубокое и однозначное понимание исходного состояния организа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нструирование образа желаемого будущ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анализ возможных затруднений и проблем, а также способов их ре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ледовательность действий по переводу образовательной организации от исходного состояния к образу будущ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Программа развития является документом прогностической информ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 развитии образовательной организации, способным эффективно понижать неопределенность будущего развития для различных субъектов образовательных отношений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Программа развития образовательной организации представляет собой документ, планирующий изменение инфраструкту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технологии обучения и воспитания, организация методической службы, структуры психолого-педагогического и медико-социального сопровождения учащихся, системы управления качеством и т.д.) образовательной организации для оптимальной реализации образо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912960" y="260280"/>
            <a:ext cx="1024560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Microsoft YaHei"/>
              </a:rPr>
              <a:t>Структура Программы развития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3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бы разработать Программу развития образовательной организаци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обходимо последовательно ответить на следующие вопрос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. Что мы хотим изменить? Что не устраивает в получаем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езультатах деятельности?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. Что мы хотим достичь и через какие изменения образователь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еятельности, образовательной среды?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лючевая проектная ид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3. Что для этого у нас есть и что потребуется?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WOT-анал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4. Как мы это будем изменять? Что будем делать?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едполагаема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правленческая модель и поэтапный план измен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5. Как мы будем оценивать достижение поставленных целей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змеримые критерии и показатели диагностики новых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бразовательных результатов учащихся, оценки деятельности педагога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еализации образователь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6. Что может нам помешать в достижении целей? Как это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едупредить?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иски и мероприятия по их минимиз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7. Какие финансовые средства потребуются для реал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граммы?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Финансовый пл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880" y="333360"/>
            <a:ext cx="117363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уктура Программы развития ОО по проекту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0600" y="1052640"/>
            <a:ext cx="11592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аспорт Программы развит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формационная справ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блемно-ориентированный анализ текущего состояния и результаты самодиагности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нцепция программы развит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одель Основной образовательной программы основного общего образования школы (реализация модели «школа полного дня»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одель управления школой (описание будущей школьной команды развития ОО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нформационное обеспечение развития школ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сурсное обеспечение реализации программы развития (образовательная инфраструктура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жидаемые результаты реализации Программы развит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Дорожная карта реализации программы развития (примерная структура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44600" y="30240"/>
            <a:ext cx="10152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ОСНОВНЫХ НАПРАВЛЕНИЙ РАЗВИТИЯ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68600" y="671400"/>
            <a:ext cx="7702920" cy="667080"/>
          </a:xfrm>
          <a:prstGeom prst="rect">
            <a:avLst/>
          </a:prstGeom>
          <a:solidFill>
            <a:srgbClr val="13708d">
              <a:alpha val="10000"/>
            </a:srgbClr>
          </a:solidFill>
          <a:ln w="19080">
            <a:solidFill>
              <a:srgbClr val="13708d"/>
            </a:solidFill>
            <a:miter/>
          </a:ln>
        </p:spPr>
        <p:txBody>
          <a:bodyPr anchor="ctr">
            <a:normAutofit/>
          </a:bodyPr>
          <a:p>
            <a:pPr marL="228600" indent="-228600" algn="ctr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ЗНАНИЕ</a:t>
            </a:r>
            <a:r>
              <a:rPr b="1" lang="en-US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 КАЧЕСТВО И ОБЪЕ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buClr>
                <a:srgbClr val="2e75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с двумя усеченными противолежащими углами 10"/>
          <p:cNvSpPr/>
          <p:nvPr/>
        </p:nvSpPr>
        <p:spPr>
          <a:xfrm>
            <a:off x="2492280" y="1477800"/>
            <a:ext cx="7702560" cy="668520"/>
          </a:xfrm>
          <a:prstGeom prst="pie">
            <a:avLst/>
          </a:prstGeom>
          <a:solidFill>
            <a:srgbClr val="d5ffff">
              <a:alpha val="10000"/>
            </a:srgbClr>
          </a:solidFill>
          <a:ln w="19080">
            <a:solidFill>
              <a:srgbClr val="137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1063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ВОС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с двумя усеченными противолежащими углами 10"/>
          <p:cNvSpPr/>
          <p:nvPr/>
        </p:nvSpPr>
        <p:spPr>
          <a:xfrm>
            <a:off x="2492280" y="2268360"/>
            <a:ext cx="7702560" cy="667080"/>
          </a:xfrm>
          <a:prstGeom prst="pie">
            <a:avLst/>
          </a:prstGeom>
          <a:solidFill>
            <a:srgbClr val="3c6064">
              <a:alpha val="10000"/>
            </a:srgbClr>
          </a:solidFill>
          <a:ln w="19080">
            <a:solidFill>
              <a:srgbClr val="137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1063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с двумя усеченными противолежащими углами 10"/>
          <p:cNvSpPr/>
          <p:nvPr/>
        </p:nvSpPr>
        <p:spPr>
          <a:xfrm>
            <a:off x="2492280" y="3060720"/>
            <a:ext cx="7702560" cy="666720"/>
          </a:xfrm>
          <a:prstGeom prst="pie">
            <a:avLst/>
          </a:prstGeom>
          <a:solidFill>
            <a:srgbClr val="d5ffff">
              <a:alpha val="10000"/>
            </a:srgbClr>
          </a:solidFill>
          <a:ln w="19080">
            <a:solidFill>
              <a:srgbClr val="137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1063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ТВОР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с двумя усеченными противолежащими углами 10"/>
          <p:cNvSpPr/>
          <p:nvPr/>
        </p:nvSpPr>
        <p:spPr>
          <a:xfrm>
            <a:off x="2492280" y="3851280"/>
            <a:ext cx="7702560" cy="668160"/>
          </a:xfrm>
          <a:prstGeom prst="pie">
            <a:avLst/>
          </a:prstGeom>
          <a:solidFill>
            <a:srgbClr val="3c6064">
              <a:alpha val="10000"/>
            </a:srgbClr>
          </a:solidFill>
          <a:ln w="19080">
            <a:solidFill>
              <a:srgbClr val="137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1063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ПРОФОРИЕНТ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с двумя усеченными противолежащими углами 10"/>
          <p:cNvSpPr/>
          <p:nvPr/>
        </p:nvSpPr>
        <p:spPr>
          <a:xfrm>
            <a:off x="2492280" y="4651200"/>
            <a:ext cx="7702560" cy="668520"/>
          </a:xfrm>
          <a:prstGeom prst="pie">
            <a:avLst/>
          </a:prstGeom>
          <a:solidFill>
            <a:srgbClr val="d5ffff">
              <a:alpha val="10000"/>
            </a:srgbClr>
          </a:solidFill>
          <a:ln w="19080">
            <a:solidFill>
              <a:srgbClr val="137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1063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УЧИТЕЛЬ.ШКОЛЬНЫЕ КОМАН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с двумя усеченными противолежащими углами 10"/>
          <p:cNvSpPr/>
          <p:nvPr/>
        </p:nvSpPr>
        <p:spPr>
          <a:xfrm>
            <a:off x="2492280" y="5443560"/>
            <a:ext cx="7702560" cy="666720"/>
          </a:xfrm>
          <a:prstGeom prst="pie">
            <a:avLst/>
          </a:prstGeom>
          <a:solidFill>
            <a:srgbClr val="0070c0">
              <a:alpha val="10000"/>
            </a:srgbClr>
          </a:solidFill>
          <a:ln w="19080">
            <a:solidFill>
              <a:srgbClr val="137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1063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ШКОЛЬНЫЙ КЛИ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с двумя усеченными противолежащими углами 10"/>
          <p:cNvSpPr/>
          <p:nvPr/>
        </p:nvSpPr>
        <p:spPr>
          <a:xfrm>
            <a:off x="2492280" y="6203880"/>
            <a:ext cx="7702560" cy="668520"/>
          </a:xfrm>
          <a:prstGeom prst="pie">
            <a:avLst/>
          </a:prstGeom>
          <a:solidFill>
            <a:srgbClr val="d5ffff">
              <a:alpha val="10000"/>
            </a:srgbClr>
          </a:solidFill>
          <a:ln w="19080">
            <a:solidFill>
              <a:srgbClr val="137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1063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ОБРАЗОВАТЕЛЬНАЯ СР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0" y="0"/>
            <a:ext cx="120222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блемно-ориентированный анализ текущего состояния и результаты самодиагнос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1. Восемь направлений описания результатов самодиагности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нание: качество и объективность + результаты внешних диагностических процедур (анализ ВПР, ОГЭ, ЕГЭ, диагностики уровня сформированности ФГ в динамике за 3 года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спита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доровь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ворчест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фориентац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читель. Школьные коман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Школьный клима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бразовательная сре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каждому направлению описать уровень, который был выявлен в результате самодиагностики: - базовый (минимально достаточный); - средний; - полны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36640" y="361800"/>
          <a:ext cx="10461600" cy="5775480"/>
        </p:xfrm>
        <a:graphic>
          <a:graphicData uri="http://schemas.openxmlformats.org/drawingml/2006/table">
            <a:tbl>
              <a:tblPr/>
              <a:tblGrid>
                <a:gridCol w="770040"/>
                <a:gridCol w="3716280"/>
                <a:gridCol w="3068640"/>
                <a:gridCol w="2906640"/>
              </a:tblGrid>
              <a:tr h="152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я анали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ный 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описание и количество балл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елаемый результат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6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чество и объ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ори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. Школьные кома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ср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5T12:14:40Z</dcterms:created>
  <dc:creator>Учетная запись Майкрософт</dc:creator>
  <dc:description/>
  <dc:language>en-US</dc:language>
  <cp:lastModifiedBy>Учетная запись Майкрософт</cp:lastModifiedBy>
  <dcterms:modified xsi:type="dcterms:W3CDTF">2023-02-07T05:13:03Z</dcterms:modified>
  <cp:revision>81</cp:revision>
  <dc:subject/>
  <dc:title>Презентация PowerPoint</dc:title>
</cp:coreProperties>
</file>